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D77-F1B9-40B6-9B7B-27446890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57A-5E03-4DB7-BD80-23EC0C8B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363-6D95-4581-B7AC-FD70862A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A2A-2510-43FB-9078-DFB1716D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0FE0F-0EFD-43A7-A0BD-EF4A6E85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642B6-7F91-4E6A-ADE8-B6D45757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FD637-C02E-4279-84E4-D711BDA8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CF514-E946-4D99-B1C8-C0F2D780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64DA0-48B9-4605-BCBF-1DF768E9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DF85D-5272-454B-BE89-F3668158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25B10-47EE-4B70-8B3C-9C01EAB4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A27-30E3-4933-A313-FD8D1C0F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7C6D2-44F8-4FD4-AAE8-BE8D469F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3C04E-7850-4E5F-BDF0-E58D257A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CD4E6-7111-46D1-8EB9-77E39615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003EA-3458-4A74-83F9-6FDB3EAA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6CAA2-7957-41A3-B462-81E80AE7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0FD-1CB6-489B-BC57-088FB3F8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7A4-5003-4EA4-9A38-2F6F9D32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187-B81A-403B-8E7B-D1CEF6A7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53D-873D-4618-96FF-BEAE29C1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CC6-4E89-4D76-8D98-B19528DA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8A4-7F6D-44B6-B358-783AA4EA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0F8-9D3A-4E13-979C-1DBCFD01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940B-EA78-4A4A-930A-1F9F5BDDD4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7D47-A796-4A8E-82D1-93CB249798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bensguide.gpo.gov/3-5/state/california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457200"/>
            <a:ext cx="8076960" cy="36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alifor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380988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2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410080"/>
            <a:ext cx="32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ate song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ww.50states.com/califor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name: Califo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: Sacr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:33,871,6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ed the union: September 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1850 the 3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ate to j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o: Eure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kname: Golden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er: Golden Pop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: California Valley Qu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: I love you Califo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ing behind name: named after califia, a mythical parad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California: Map and State Flag"/>
          <p:cNvPicPr/>
          <p:nvPr/>
        </p:nvPicPr>
        <p:blipFill>
          <a:blip r:embed="rId1"/>
          <a:srcRect l="0" t="0" r="9871" b="74839"/>
          <a:stretch/>
        </p:blipFill>
        <p:spPr>
          <a:xfrm>
            <a:off x="457200" y="304920"/>
            <a:ext cx="30481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California: Map and State Flag"/>
          <p:cNvPicPr/>
          <p:nvPr/>
        </p:nvPicPr>
        <p:blipFill>
          <a:blip r:embed="rId2"/>
          <a:srcRect l="0" t="26965" r="0" b="0"/>
          <a:stretch/>
        </p:blipFill>
        <p:spPr>
          <a:xfrm>
            <a:off x="3962520" y="457200"/>
            <a:ext cx="3171600" cy="4238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14400" y="3886200"/>
            <a:ext cx="2819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: California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3/10 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bensguide.gpo.gov/3-5/state/californi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© 1999 WriteLine. Poppy"/>
          <p:cNvPicPr/>
          <p:nvPr/>
        </p:nvPicPr>
        <p:blipFill>
          <a:blip r:embed="rId1"/>
          <a:stretch/>
        </p:blipFill>
        <p:spPr>
          <a:xfrm>
            <a:off x="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© 1999 WriteLine. Valley Quail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276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3505320"/>
            <a:ext cx="4114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or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lifornia state stamps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9/23/2010 http://www.postcardsfrom.com/stamp/stamp-c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4290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or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lifornia state stamps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9/23/2010     http://www.postcardsfrom.com/stamp/stamp-c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257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state flower is a golden popp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5029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valley quail is California’s state bir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1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12119 L 0.077 0.31697 L -0.077 0.31697 L -0.125 0.12119 L 0 0 Z">
                                      <p:cBhvr>
                                        <p:cTn id="7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7 0.021 -0.04661 C 0.04 -0.09988 0.045 -0.15182 0.031 -0.15982 C 0.017 -0.16914 -0.01 -0.13185 -0.029 -0.07858 C -0.039 -0.05061 -0.045 -0.02397 -0.047 -0.004 C -0.05 0.01199 -0.051 0.02797 -0.051 0.04661 C -0.051 0.10654 -0.038 0.15582 -0.023 0.15582 C -0.008 0.15582 0.005 0.10654 0.005 0.04661 C 0.005 0.01865 0.002 -0.00799 -0.003 -0.02664 C -0.005 -0.04262 -0.01 -0.05993 -0.016 -0.07724 C -0.036 -0.13185 -0.063 -0.16914 -0.077 -0.15982 C -0.091 -0.15049 -0.086 -0.09988 -0.066 -0.04528 C -0.058 -0.01998 -0.047 0.00133 -0.036 0.01598 C -0.028 0.0293 -0.019 0.04129 -0.007 0.05327 C 0.029 0.09189 0.065 0.10921 0.075 0.09323 C 0.084 0.07724 0.064 0.03329 0.028 -0.004 C 0.013 -0.01998 -0.003 -0.03196 -0.016 -0.03995 C -0.028 -0.04794 -0.043 -0.0546 -0.059 -0.0586 C -0.103 -0.07192 -0.141 -0.06792 -0.144 -0.04661 C -0.148 -0.02664 -0.115 0 -0.071 0.01332 C -0.051 0.01865 -0.032 0.02131 -0.017 0.01998 C -0.004 0.01998 0.01 0.01731 0.025 0.01332 C 0.069 0 0.102 -0.02797 0.098 -0.04794 C 0.095 -0.06792 0.057 -0.07325 0.013 -0.05993 C -0.008 -0.05327 -0.027 -0.04395 -0.04 -0.03329 C -0.051 -0.0253 -0.062 -0.01598 -0.074 -0.004 C -0.109 0.03463 -0.13 0.07724 -0.12 0.09323 C -0.111 0.10921 -0.074 0.09189 -0.039 0.0546 C -0.022 0.03596 -0.008 0.01731 0 0 Z">
                                      <p:cBhvr>
                                        <p:cTn id="7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All images Copyright © 1997 - 2000 WriteLine. All Rights Reserved. Sacramento Capitol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4920" y="5105520"/>
            <a:ext cx="8076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acrament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ifornia, 9/23/2010  http://www.postcardsfrom.com/t1/990608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16765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my states cap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8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05:45Z</dcterms:created>
  <dc:creator>install</dc:creator>
  <dc:description/>
  <dc:language>en-US</dc:language>
  <cp:lastModifiedBy>install</cp:lastModifiedBy>
  <dcterms:modified xsi:type="dcterms:W3CDTF">2010-10-14T13:21:08Z</dcterms:modified>
  <cp:revision>12</cp:revision>
  <dc:subject/>
  <dc:title>Slide 1</dc:title>
</cp:coreProperties>
</file>